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997-A514-41E5-985D-33CA96BB3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F03-145C-47E7-B285-0E38B9D7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E28-D446-443A-BD42-D3F89A6F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1A0-FD56-462E-93C5-1394B05B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A23-6647-49B1-B514-0A5F0C37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41A-28FC-4264-AAE8-1FA5F4F7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C17-1CB4-4DA2-A3E8-20768B8F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833-B455-438E-BB58-11AA8FB0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C43-8F94-4D01-B314-9F0E24C9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68C-C78D-420C-8947-AACD1239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71C-D300-47B4-8EBA-381850F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FFF-B812-483C-8845-7CB566E8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B25-993F-47B2-8420-E5E5E24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9586-A5DD-4508-B35C-2D21B825D39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9006-D0B5-4A9B-A1E0-F70ADD5351C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НФИДЕНЦИАЛЬНО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ТАНОВЛЕНИЕ ПРОГРАММЫ ЗАЩИТЫ КОММЕРЧЕСКИХ ТАЙН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B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ю.н. Янушаускайте Крист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ИС Программа обуч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еров (экспертов) по ИС для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 – 20 августа,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720" y="1268280"/>
            <a:ext cx="7000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всех сотрудников в вопросах, связанных с безопасностью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ть разумные ограничения в письменной форме во все контра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adesecrets"/>
          <p:cNvPicPr/>
          <p:nvPr/>
        </p:nvPicPr>
        <p:blipFill>
          <a:blip r:embed="rId1"/>
          <a:stretch/>
        </p:blipFill>
        <p:spPr>
          <a:xfrm>
            <a:off x="4643280" y="4941720"/>
            <a:ext cx="1833840" cy="1692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413000"/>
            <a:ext cx="700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ить доступ к бумажным отч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ть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конфиденциальность в помещении оф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тайну компьют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нять тайну, которая разделена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image_2[1]"/>
          <p:cNvPicPr/>
          <p:nvPr/>
        </p:nvPicPr>
        <p:blipFill>
          <a:blip r:embed="rId1"/>
          <a:stretch/>
        </p:blipFill>
        <p:spPr>
          <a:xfrm>
            <a:off x="4067280" y="5229360"/>
            <a:ext cx="2076480" cy="14396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?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ar_Tyres"/>
          <p:cNvPicPr/>
          <p:nvPr/>
        </p:nvPicPr>
        <p:blipFill>
          <a:blip r:embed="rId2"/>
          <a:stretch/>
        </p:blipFill>
        <p:spPr>
          <a:xfrm>
            <a:off x="3276720" y="479736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езаконное завладение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</a:t>
            </a:r>
            <a:r>
              <a:rPr b="0" lang="en-GB" sz="3200" spc="-1" strike="noStrike">
                <a:solidFill>
                  <a:srgbClr val="eeece1"/>
                </a:solidFill>
                <a:latin typeface="Calibri"/>
              </a:rPr>
              <a:t>: определени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ровством, мошенничеством, принуждением или любыми другими противоправными дей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я (или будучи чрезвычайно небрежным в подвождении знать), что это было незаконно приобретено преж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винно приобрет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мерческую тайну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используя или разглашая ее после изучения более раннего незаконного приобре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рушении договорного обяз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206064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т пароль от своего коллеги, который фактически 'взломал'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Вы прокомментируете такое объяс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r_Tyres"/>
          <p:cNvPicPr/>
          <p:nvPr/>
        </p:nvPicPr>
        <p:blipFill>
          <a:blip r:embed="rId2"/>
          <a:stretch/>
        </p:blipFill>
        <p:spPr>
          <a:xfrm>
            <a:off x="3348000" y="5454720"/>
            <a:ext cx="24321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3080" y="1413000"/>
            <a:ext cx="6532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збекис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законам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естной конкуренции (например, в Герма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6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анови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ушение коммерческих тайн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всего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тить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Средства юридической защиты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сам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 обычн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новить дальнейшее использования и получения вы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о приобретенн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ть убытки (фактическое повреждение, потеря прибыли или несправедливого обогащ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искация и 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омещении ответчика, чтобы получить свиде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Аудит коммерческих тайн комп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 можете помочь генеральному директору и объяснить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ocuments"/>
          <p:cNvPicPr/>
          <p:nvPr/>
        </p:nvPicPr>
        <p:blipFill>
          <a:blip r:embed="rId2"/>
          <a:stretch/>
        </p:blipFill>
        <p:spPr>
          <a:xfrm>
            <a:off x="46836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ck3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онтрольный список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шагов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'коммерческая тай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конное завла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: как это запретить и каковы системы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: как это установить и каковы средства юридической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овод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д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ПАСИБО!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Что такое 'коммерческая тайна'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0028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 никогда не слышал не о чем ' секретном'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r_Tyres"/>
          <p:cNvPicPr/>
          <p:nvPr/>
        </p:nvPicPr>
        <p:blipFill>
          <a:blip r:embed="rId2"/>
          <a:stretch/>
        </p:blipFill>
        <p:spPr>
          <a:xfrm>
            <a:off x="971640" y="4941720"/>
            <a:ext cx="2431800" cy="17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r_Tyres"/>
          <p:cNvPicPr/>
          <p:nvPr/>
        </p:nvPicPr>
        <p:blipFill>
          <a:blip r:embed="rId3"/>
          <a:stretch/>
        </p:blipFill>
        <p:spPr>
          <a:xfrm>
            <a:off x="6012000" y="486900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 – это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хнологическая, коммерческая, финансовая, стратегическая, логистическая, научная, и т.д.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является общеизве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обществ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других соответствующих круг бизнес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владельцу из-за факта, что это является секретно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лежи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умным усилиям поддерж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йн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” 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в Узбекском законодательстве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ужебную и коммерческую тай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случае, когда информация име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йствительную или потенциальную 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лу неизвестности ее третьим лицам, к н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свободного досту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законном основании и обладатель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имает меры к охра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конфиденциаль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т. 98 ГК РУ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знаменитый 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oke460"/>
          <p:cNvPicPr/>
          <p:nvPr/>
        </p:nvPicPr>
        <p:blipFill>
          <a:blip r:embed="rId1"/>
          <a:stretch/>
        </p:blipFill>
        <p:spPr>
          <a:xfrm>
            <a:off x="2195640" y="981000"/>
            <a:ext cx="3743280" cy="20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ca-cola-two-guys"/>
          <p:cNvPicPr/>
          <p:nvPr/>
        </p:nvPicPr>
        <p:blipFill>
          <a:blip r:embed="rId2"/>
          <a:stretch/>
        </p:blipFill>
        <p:spPr>
          <a:xfrm>
            <a:off x="2195640" y="3174840"/>
            <a:ext cx="4824360" cy="291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keSecretIngredient"/>
          <p:cNvPicPr/>
          <p:nvPr/>
        </p:nvPicPr>
        <p:blipFill>
          <a:blip r:embed="rId3"/>
          <a:stretch/>
        </p:blipFill>
        <p:spPr>
          <a:xfrm>
            <a:off x="6443640" y="907920"/>
            <a:ext cx="243216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844640"/>
          <a:ext cx="8497800" cy="4938840"/>
        </p:xfrm>
        <a:graphic>
          <a:graphicData uri="http://schemas.openxmlformats.org/drawingml/2006/table">
            <a:tbl>
              <a:tblPr/>
              <a:tblGrid>
                <a:gridCol w="3990960"/>
                <a:gridCol w="450684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б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регистрации, меньше затрат, непосредственный эфф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 поддерживать в течение более длитель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удовлетворить требование новизны или оригинальности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раниченные возможности защиты, трудное осуществление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ра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возможности остановить других от изобретения того же самого продукта или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граниченное время защ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защиты тогда, когда информация обнаружена справедливыми и честными средствами, например, обратное проек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1557000"/>
            <a:ext cx="67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ить систему идентификации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олитику в области безопасности относительно информации, которая включает информацию о коммерческих тайнах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й, административный и технический контро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cret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48:15Z</dcterms:created>
  <dc:creator> </dc:creator>
  <dc:description/>
  <dc:language>en-US</dc:language>
  <cp:lastModifiedBy>LEGION</cp:lastModifiedBy>
  <dcterms:modified xsi:type="dcterms:W3CDTF">2016-01-05T12:44:33Z</dcterms:modified>
  <cp:revision>43</cp:revision>
  <dc:subject/>
  <dc:title>PRESENTATION  NAME</dc:title>
</cp:coreProperties>
</file>